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5E3-16B1-4312-A79C-F41E02FB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9CC-6CCC-4881-AC9F-939279FB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EBD-8532-484F-BBC1-ED1874AB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D3D-B2A4-4CDA-8FA3-374CCD65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BD33-8BFB-4391-8461-BE4F5480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A614-6102-4075-A1D5-7AD6C28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757F-1C54-4E11-9360-6737899D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A919-2B81-4952-BF54-75F89ABC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C039-558D-424C-80DE-9833AF26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3AF7-3911-4F5B-A76C-F89B0E1B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9BE6-60B9-4A3D-8FC3-8C603E35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CD1-B665-4A2D-BDCD-F79848A4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71EB-3A03-4D63-BB66-CA7F0C6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5EEF-D96A-47E1-8045-2E3F1F04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0422-4762-44E6-A3E0-F837352B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8263-CA31-4F3D-8819-3DC0AD57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E704-38F6-4818-98FD-EE5C7772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0F9-7A0D-4A28-B47C-9FB0649D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AD5-6E0A-4A31-AE70-331CD83B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76D-A1F7-410A-86D7-69593D03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4E4-8BF0-4AF2-8DB1-55C60CA1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CFC-C631-4563-80BD-8194A6CD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712-C052-4CB8-BA8E-5E8DB543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6D2-1B9A-431F-B927-B021272D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880C-5A39-4EE8-9A53-6183AEC61A55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C36A-B971-4EDE-91D8-13DBDE509B2D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se 2: Thora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3733560"/>
            <a:ext cx="7391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obia Raj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hannon Armbrust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Jennifer H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ana Foradori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rmur Grad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Grade 1: barely audible, must strain to hear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Grade 2: quiet, but clearly audib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Grade 3: moderately loud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Grade 4: loud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Grade 5: very loud; audible with stethoscope partly off the chest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Grade 6: so loud it can be heard with stethoscope just above chest wall  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uses/Differential of Stenosis (shannon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3 caus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Differentiating between the three, and why this case is one of the 3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st Films (jen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2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nlarged Ventric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83120" y="1676160"/>
            <a:ext cx="36273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choCardiogram and EKG (Jen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You would see a thickening, calcified aortic valve partial opening and reflect thickening of heart muscl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KG should be going abnorm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gnosis (Sobi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ulse in carotid arteries higher than that of the lower extremiti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urmur in the 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intercostal heard loudest past the abnormality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intercostal = location of aortic arch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jection click + systolic murmur = diagnostic of aortic stenosi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What is the cause of this patient’s pain? Dan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What is the anatomical basis for the sustained apical beat? (Shannon)  Systolic thrill? Done  Murmur in the second intercostal space? Location past the valve to hear abnormality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escribe the expected finding from this patient’s chest films that would support your diagnosis (Jen) (medicinenet.com)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What is your diagnosis?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ef Complai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ahoma"/>
              </a:rPr>
              <a:t>67 y.o. Male came in due to Chest Pains described as a tightness and ache “deep below the breast plate” present for 3 months.  </a:t>
            </a: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ahoma"/>
              </a:rPr>
              <a:t>Aggrevating Factors: Physical Activity for up to 10 minutes.  </a:t>
            </a: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ahoma"/>
              </a:rPr>
              <a:t>PMH – none for lung or heart disease.</a:t>
            </a: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ahoma"/>
              </a:rPr>
              <a:t>HPI – no injury or disease, no meds.</a:t>
            </a: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t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Physical examina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Vital signs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lood Pressure: 130/80 (low end of high bp, consistent with stenosis, opening smaller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ulse: 75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hythm: Regula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mperature: 99.0oF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espiratory rate: 17 (12-20 normal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eight: 5’10”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ight:150 lbs. (skinny, likely not to be atherosclerosis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EENT Examination:  Norm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ungs:Norm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diac Exam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Palpation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ccentuated and sustained apical beat (located in the left midline) with upright patient.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 systolic thrill in suprasternal area and along the common carotid arteries. 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Pulses: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Carotid arteries: small amplitude, slow to rise and fall. 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Radial/Ulnar arteries at wrists &amp; dorsal pedis and posterior tibial (ankles): small in amplitude.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uscultation of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nterior end of right 2</a:t>
            </a:r>
            <a:r>
              <a:rPr b="0" lang="en-US" sz="2200" spc="-1" strike="noStrike" baseline="30000">
                <a:solidFill>
                  <a:srgbClr val="003366"/>
                </a:solidFill>
                <a:latin typeface="Tahoma"/>
              </a:rPr>
              <a:t>nd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intercostal space = diminished sounds coming from closure of aortic valve. 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click during early systole and a grade 4/6 murmur, loudest at  anterior end of right 2</a:t>
            </a:r>
            <a:r>
              <a:rPr b="0" lang="en-US" sz="2200" spc="-1" strike="noStrike" baseline="30000">
                <a:solidFill>
                  <a:srgbClr val="003366"/>
                </a:solidFill>
                <a:latin typeface="Tahoma"/>
              </a:rPr>
              <a:t>nd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intercostal space, radiating to common carotide arteries.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ll else Normal.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stained Apical Be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Sustained apical Beat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- due to the recoil of the heart when blood ejecte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Location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 at or medial Left midclaviular line in 4</a:t>
            </a:r>
            <a:r>
              <a:rPr b="0" lang="en-US" sz="2800" spc="-1" strike="noStrike" baseline="30000">
                <a:solidFill>
                  <a:srgbClr val="003366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or 5</a:t>
            </a:r>
            <a:r>
              <a:rPr b="0" lang="en-US" sz="2800" spc="-1" strike="noStrike" baseline="30000">
                <a:solidFill>
                  <a:srgbClr val="003366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intercostal space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Abnormalities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 Left ventricular hypertrophy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auses exaggeration of amplitude, duration and size of normal left ventricular thrust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stolic Thril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alpable, low-frequency vibrations associated with heart murmurs. 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ight : Thrill of aortic stenosi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eft : Thrill of Pulmonic stenosi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rly Systolic Click (Dan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2240" y="152280"/>
            <a:ext cx="36878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ulses (Sobia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380520"/>
            <a:ext cx="4038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452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on corati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rsal Ped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525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ris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5105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terior Tib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17476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133720" y="1828800"/>
            <a:ext cx="195264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752480" y="441972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334120" y="3276720"/>
            <a:ext cx="1046160" cy="33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32828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18960" y="1676160"/>
            <a:ext cx="3871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Tahoma"/>
              </a:rPr>
              <a:t>Common Carotid: 2/3</a:t>
            </a:r>
            <a:endParaRPr b="0" lang="en-US" sz="25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Tahoma"/>
              </a:rPr>
              <a:t>Wrists: 5</a:t>
            </a:r>
            <a:endParaRPr b="0" lang="en-US" sz="25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Tahoma"/>
              </a:rPr>
              <a:t>Posterior Tibia: 7</a:t>
            </a:r>
            <a:endParaRPr b="0" lang="en-US" sz="25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Tahoma"/>
              </a:rPr>
              <a:t>Dorsal Pedis: 8/9</a:t>
            </a:r>
            <a:endParaRPr b="0" lang="en-US" sz="25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0:36:40Z</dcterms:created>
  <dc:creator>Sobia Raja</dc:creator>
  <dc:description/>
  <dc:language>en-US</dc:language>
  <cp:lastModifiedBy>Sobia Raja</cp:lastModifiedBy>
  <dcterms:modified xsi:type="dcterms:W3CDTF">2007-12-08T14:44:37Z</dcterms:modified>
  <cp:revision>18</cp:revision>
  <dc:subject/>
  <dc:title>Case 2: Thorax</dc:title>
</cp:coreProperties>
</file>